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D34567-2D08-4CCA-A195-BB693CDEC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BCDDD-70D1-42D4-9CBA-03B986425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0A4C55-8C54-4764-B392-9BFA201CD1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2C9EEE-6054-4BC3-A541-E0FEC44C2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18F45E-75F9-4F21-9244-5D696A7C2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C37507-9479-436C-9F4E-F3C17EEA4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9D51F7-67F4-4B85-B5B2-28BE1BFB7C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583057-15A0-4F67-8839-F2BAB8646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BF10FF-E20E-415B-A79A-5F24581F4D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D0EBF-69D4-4C63-AC9F-56FF5DAF8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49F7A-473B-4175-9FDE-3C8B73397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A8FFB-FCBC-49A5-B8CF-F34F70F75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7"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Click to edit the title text format</a:t>
            </a:r>
            <a:endParaRPr b="1" lang="en-US" sz="3200" spc="-1" strike="noStrike">
              <a:solidFill>
                <a:srgbClr val="0a418a"/>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7280" indent="-28728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4286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74b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74be"/>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22960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74b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BA61-AB28-4A77-A7CB-1C7AF2CB1FE4}" type="slidenum">
              <a:rPr b="0" lang="en-US" sz="1400" spc="-1" strike="noStrike">
                <a:solidFill>
                  <a:srgbClr val="4274b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17320" y="1460520"/>
            <a:ext cx="6049800" cy="1060560"/>
          </a:xfrm>
          <a:prstGeom prst="rect">
            <a:avLst/>
          </a:prstGeom>
          <a:noFill/>
          <a:ln w="0">
            <a:noFill/>
          </a:ln>
        </p:spPr>
        <p:txBody>
          <a:bodyPr lIns="73080" rIns="73080" tIns="36360" bIns="3636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2" name="" descr=""/>
          <p:cNvPicPr/>
          <p:nvPr/>
        </p:nvPicPr>
        <p:blipFill>
          <a:blip r:embed="rId2"/>
          <a:srcRect l="0" t="0" r="0" b="22490"/>
          <a:stretch/>
        </p:blipFill>
        <p:spPr>
          <a:xfrm>
            <a:off x="457200" y="465120"/>
            <a:ext cx="1498680" cy="449280"/>
          </a:xfrm>
          <a:prstGeom prst="rect">
            <a:avLst/>
          </a:prstGeom>
          <a:ln w="0">
            <a:noFill/>
          </a:ln>
        </p:spPr>
      </p:pic>
      <p:pic>
        <p:nvPicPr>
          <p:cNvPr id="43" name="" descr=""/>
          <p:cNvPicPr/>
          <p:nvPr/>
        </p:nvPicPr>
        <p:blipFill>
          <a:blip r:embed="rId3"/>
          <a:srcRect l="0" t="667" r="0"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Next Steps</a:t>
            </a:r>
            <a:endParaRPr b="1" lang="en-US" sz="3200" spc="-1" strike="noStrike">
              <a:solidFill>
                <a:srgbClr val="0a418a"/>
              </a:solidFill>
              <a:latin typeface="Arial"/>
            </a:endParaRPr>
          </a:p>
        </p:txBody>
      </p:sp>
      <p:graphicFrame>
        <p:nvGraphicFramePr>
          <p:cNvPr id="81" name=""/>
          <p:cNvGraphicFramePr/>
          <p:nvPr/>
        </p:nvGraphicFramePr>
        <p:xfrm>
          <a:off x="3657600" y="457200"/>
          <a:ext cx="4449600" cy="6019920"/>
        </p:xfrm>
        <a:graphic>
          <a:graphicData uri="http://schemas.openxmlformats.org/presentationml/2006/ole">
            <p:oleObj r:id="rId1" spid="">
              <p:embed/>
              <p:pic>
                <p:nvPicPr>
                  <p:cNvPr id="82" name="" descr=""/>
                  <p:cNvPicPr/>
                  <p:nvPr/>
                </p:nvPicPr>
                <p:blipFill>
                  <a:blip r:embed="rId2"/>
                  <a:stretch/>
                </p:blipFill>
                <p:spPr>
                  <a:xfrm>
                    <a:off x="3657600" y="457200"/>
                    <a:ext cx="4449600" cy="6019920"/>
                  </a:xfrm>
                  <a:prstGeom prst="rect">
                    <a:avLst/>
                  </a:prstGeom>
                  <a:ln w="0">
                    <a:noFill/>
                  </a:ln>
                </p:spPr>
              </p:pic>
            </p:oleObj>
          </a:graphicData>
        </a:graphic>
      </p:graphicFrame>
      <p:sp>
        <p:nvSpPr>
          <p:cNvPr id="83" name=""/>
          <p:cNvSpPr/>
          <p:nvPr/>
        </p:nvSpPr>
        <p:spPr>
          <a:xfrm>
            <a:off x="152280" y="838080"/>
            <a:ext cx="3505320" cy="5205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d 16 Oct, 3:01PM PT</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EASANTON (Reuters) - Mr. Boogers announced his retirement today, after months of serving as the cynical voice of project status.  “Frankly, I’ve been more interested in mousing and playing with twine, than dealing with the day to day operations of a software company.  It’s a personal decision,” Mr. Boogers said.  “I wish the best to my friends and colleagues.  I expect to see great things from them in the future.”  In recent weeks, analysts had noticed a shift in attitude with the favorite feline.  “He just didn’t seem to like anyone anymore,” said Bob Googlewit, a senior industry observer and cat lover with Bits, Bobs, and Balls of Yarn LLC.  </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re has been no announcement concerning a replacement, but insiders have told analysts expect something more uplifting.  Mr. Boogers is expected to work as a private consultant, when not otherwise occupied with his normal cat duti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merce One Confidential</a:t>
            </a:r>
          </a:p>
        </p:txBody>
      </p:sp>
      <p:sp>
        <p:nvSpPr>
          <p:cNvPr id="4" name="PlaceHolder 3"/>
          <p:cNvSpPr>
            <a:spLocks noGrp="1"/>
          </p:cNvSpPr>
          <p:nvPr>
            <p:ph type="sldNum" idx="2"/>
          </p:nvPr>
        </p:nvSpPr>
        <p:spPr/>
        <p:txBody>
          <a:bodyPr/>
          <a:p>
            <a:fld id="{3EBA62B4-38A9-44C5-840A-0C67F9E3C7E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5:51:39Z</dcterms:created>
  <dc:creator>Erich Gatejen</dc:creator>
  <dc:description/>
  <dc:language>en-US</dc:language>
  <cp:lastModifiedBy>Erich P G</cp:lastModifiedBy>
  <dcterms:modified xsi:type="dcterms:W3CDTF">2002-10-16T22:38:04Z</dcterms:modified>
  <cp:revision>482</cp:revision>
  <dc:subject/>
  <dc:title>PowerPoint Presentation</dc:title>
</cp:coreProperties>
</file>